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0B9D1-5F26-48B6-AA92-2D806852A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C85E0-116D-45D7-852B-21C372AA0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A7B30-AED8-4092-B374-B216C9064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15E47-3AA6-4889-A928-1285D8312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97D40-3730-4621-95A8-DF973B5DA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7E9DA-85EA-405A-ACF7-9CDAB730F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3069E-BF49-46E6-B05D-F5469163D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463DD-D707-4D62-B17F-92474A585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09CAE-8019-4F68-AFFE-D46424173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5A0A-A1D1-4202-89CA-96108C13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86CB8-BA86-43EE-99E3-5AD0F9E3C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0AFA2-39A0-485F-9C4C-9CE5D6F7C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B265-EA14-4C46-8509-A4ACA5ED8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M SEA SHORE FLOW</a:t>
            </a:r>
            <a:endParaRPr b="0" lang="en-US" sz="4400" spc="-1" strike="noStrike">
              <a:solidFill>
                <a:srgbClr val="000000"/>
              </a:solidFill>
              <a:latin typeface="Arial"/>
            </a:endParaRPr>
          </a:p>
        </p:txBody>
      </p:sp>
      <p:sp>
        <p:nvSpPr>
          <p:cNvPr id="42" name="PlaceHolder 2"/>
          <p:cNvSpPr>
            <a:spLocks noGrp="1"/>
          </p:cNvSpPr>
          <p:nvPr>
            <p:ph type="subTitle"/>
          </p:nvPr>
        </p:nvSpPr>
        <p:spPr>
          <a:xfrm>
            <a:off x="685800" y="1218960"/>
            <a:ext cx="7696080" cy="4724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VADMIN 234/08 announced the new Sea/Shore Flow (SSF) Career Paths which replaces the old Sea/Shore Rotation policy. The Sea Shore Flow (SSF) rotation lengths reflect specific HM billets by NEC.  Most rotation lengths have not changed or have decreased tour lengths.  All rotations where based on the ratio of Sea billets verses Shore billets, Sailor career needs, and Fleet requirements.  If you have no Sea duty billets you will have a SSF rotation of 0 (zero) months Sea and 60 to 72 months Shore.  All rotations for HM's where evaluated by the NEC's Enlisted Technical Leaders(ETL), Enlisted Placement Management Center(EPMAC), Senior HM's in the community or Board of Advisors(BOA) if assembled, Enlisted Community Manager(ECM) and your Detailer.  Please contact your ETL or Detailer with any specific questions about your NEC's rotation  schedu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M SEA SHORE FLOW </a:t>
            </a:r>
            <a:endParaRPr b="0" lang="en-US" sz="4400" spc="-1" strike="noStrike">
              <a:solidFill>
                <a:srgbClr val="000000"/>
              </a:solidFill>
              <a:latin typeface="Arial"/>
            </a:endParaRPr>
          </a:p>
        </p:txBody>
      </p:sp>
      <p:graphicFrame>
        <p:nvGraphicFramePr>
          <p:cNvPr id="44" name=""/>
          <p:cNvGraphicFramePr/>
          <p:nvPr/>
        </p:nvGraphicFramePr>
        <p:xfrm>
          <a:off x="414360" y="1371600"/>
          <a:ext cx="4038480" cy="5343480"/>
        </p:xfrm>
        <a:graphic>
          <a:graphicData uri="http://schemas.openxmlformats.org/drawingml/2006/table">
            <a:tbl>
              <a:tblPr/>
              <a:tblGrid>
                <a:gridCol w="1316160"/>
                <a:gridCol w="1317600"/>
                <a:gridCol w="140472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M N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R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4/E-6&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4/E-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4/E-4&g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9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5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6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6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bl>
          </a:graphicData>
        </a:graphic>
      </p:graphicFrame>
      <p:graphicFrame>
        <p:nvGraphicFramePr>
          <p:cNvPr id="45" name=""/>
          <p:cNvGraphicFramePr/>
          <p:nvPr/>
        </p:nvGraphicFramePr>
        <p:xfrm>
          <a:off x="4605480" y="1371600"/>
          <a:ext cx="4038480" cy="5343480"/>
        </p:xfrm>
        <a:graphic>
          <a:graphicData uri="http://schemas.openxmlformats.org/drawingml/2006/table">
            <a:tbl>
              <a:tblPr/>
              <a:tblGrid>
                <a:gridCol w="1479240"/>
                <a:gridCol w="1279800"/>
                <a:gridCol w="127944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M N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OR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6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8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8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8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8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49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50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5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50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5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70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7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7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7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75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76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M-00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2T16:15:54Z</dcterms:created>
  <dc:creator>dawn.lovell</dc:creator>
  <dc:description/>
  <dc:language>en-US</dc:language>
  <cp:lastModifiedBy>dawn.lovell</cp:lastModifiedBy>
  <dcterms:modified xsi:type="dcterms:W3CDTF">2008-10-21T12:39:55Z</dcterms:modified>
  <cp:revision>2</cp:revision>
  <dc:subject/>
  <dc:title>HM SEA SHORE FLOW</dc:title>
</cp:coreProperties>
</file>